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70F1-9928-497D-AD6B-BFECBB84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6A9-C58F-446A-B179-06F07D62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803-73E4-4EE0-A7E1-3027C720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CB9-2735-4437-9863-77B28019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BFC5-F6DB-41C2-AC60-D04E99C1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658B-D480-4520-9DB4-7BB7F889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46C1-BE4C-474E-8868-9BECA3A1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4F89-CDC5-493E-B3AE-64A980CF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878F-8A01-4D04-BD56-8FC49E43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4BE7-59E9-4A9D-98B1-86047E50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2D86-BF8A-40FB-AF52-FE62255D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8BB-5ECE-4ED0-BECF-7F80E9FC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3A4A-CC79-4682-99F3-95B8F5B3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6D61-E67C-4CE3-8985-1E799D83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75F2-A6A0-48A3-A04C-13CE629F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7298-59CF-46D6-A60D-8A5A9DFB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7818-CAE4-4A06-A687-7C0FA107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1E230-3723-4E57-ACB2-0D57DB76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D925C-9A24-4FA8-AA1E-AE631895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740D5-13E2-45F1-886F-2CEC56C3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E4D422-A1AD-41CE-9445-4CF9810C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2B350-78E3-475C-A047-D2302D23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0F34-EB20-488A-B09F-DD3EF3B2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4DCF1-44B3-42C4-A5CB-414DB742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9EA566-D371-4FD4-A15F-4ED2E51C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FC72A-A864-4733-8992-D747C67F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DF3F1-C352-4FF3-B47D-1A333435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1CE9A-DB8E-4ABC-B311-CCFB3AD0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E7642-3A05-464F-BD2D-C4607F55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AD9BA-4CD1-4C6A-B392-BF93865C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B8219-B176-49B7-A41D-85D71E21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E927F-9AA9-498E-A1F1-49AA23F9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B3312-4AA9-4A3F-84C7-D1E22AE3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E41-5A13-471C-908A-B1C3F560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C128E-E9EA-42C3-ACAC-7BFD481B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8A5A2-D3A2-41A9-9C14-AA516265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D9908-8CCE-4871-AE73-2BBF9616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31107-B8B9-4A4C-8AB2-102ED8A4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60A88-8D39-4C19-8F66-3150E3EA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13603-08DA-4F03-896D-07119FD3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71DD8-0330-4555-9BA9-5BACA773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8F4A9-18CB-45B9-8F1B-77453623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CC464-EB13-403E-9FD9-382B5120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B186A-B8EE-4AC5-A64B-BBB5FE23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0DD-F7D2-439B-B3FF-0AEA2025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18E16-F2EF-41BD-8D8C-B2C97B52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4EF656-E9FB-4673-B636-2CD6EBA4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AC5032-8790-4F3D-B48B-8D1AB8A3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F632DD-3B71-4560-A3C7-97BED0D8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DB690D-7A4D-49AD-A775-B1EAC52B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851AA8-0D84-4B67-9D9D-575B162F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97B793-2A0E-4C63-8C95-D824280C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211F3-E7A7-4D14-9CA1-0FDF5A17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57DCB-54C7-4E9B-85AE-C3C949A5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F76A2B-A7B4-43BA-9B23-2836EF8C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BC8-726A-4EE8-AEFC-1A0400BE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9224B1-075E-40B3-ABF0-DA64C947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0F617A-50BB-4F91-97B7-AB5A9AF5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A667B-BFC0-4B73-B308-C5C4B14C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551B68-B225-4141-9622-93CC7BBB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35F556-755E-428E-9485-7B01C901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2D8C6E-6DDC-489B-A4B0-F8103768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C8342-DE70-4D84-B6B1-5786BB47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B3139A-A5EC-40E0-A394-F3BC0B03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FD665C-CC7D-48D1-BCF8-F881C156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621407-E750-4A01-B00F-AA423310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DDF6-3BCD-4FD2-B353-E0E251C2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F0FF5F-7A7C-4881-AFFE-A3C6428D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541B0C-5DD7-4237-9588-2CF4ABCF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70C524-77E2-453F-8025-F103427C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D31666-42CA-4988-9235-13E9F876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BED1F7-AD5A-4109-A4F6-2FA5D28F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A6A185-B0A5-4FF8-BA91-2F667258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77B9D4-7417-4F72-9E44-411964AB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DAB0A4-A1B8-4429-87F3-3F55719C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C8E51E-E4D6-4D6B-B234-705D8BF1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D0BA88-D9BD-4957-A40D-84579858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8C39-CD7E-40B4-A4D0-8C6DB3D0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7E7BBB-3026-41EA-9FF3-A1D4521C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297D7F-6322-48F6-B0F5-6EDE19C1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58864E-C024-4CBB-911B-270D06FA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70E229-DC37-43A7-8C15-32EFDEA0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779CAF-D531-44EE-826F-0C891CD6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D422-5423-419F-B2E0-697C91BE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aafc7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dc3d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73f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73f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dc3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c3d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73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aafc7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73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4796-0358-4BA3-943E-DFED66FD29F4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aafc7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cced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cced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d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aafc7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d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aafc7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aafc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dc3d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73f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73f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dc3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dc3d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540B-B1CF-4FF6-B7B8-39FF64DBAC32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aafc7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73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aafc7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73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dc3d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73f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73f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dc3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c3d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5E22-744A-4647-8409-FAC44735B17E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aafc7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cced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cced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d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aafc7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d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aafc7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aafc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73f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73f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9D6E-4587-4DF3-80B2-F986E628A7DA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aafc7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73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aafc7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73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dc3d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73f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73f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dc3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c3d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1A97-C648-491D-83A8-E154AFB3B13B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aafc7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73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73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aafc7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73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dc3d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73f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73f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dc3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c3d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82F1-5B51-46C8-BC08-4B4619B9671C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aaf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73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73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dc3d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73f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73f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dc3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c3d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1528-24B2-4DE7-873F-8148057B8423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57360" y="500040"/>
            <a:ext cx="5105160" cy="2868480"/>
          </a:xfrm>
          <a:prstGeom prst="rect">
            <a:avLst/>
          </a:prstGeom>
          <a:solidFill>
            <a:srgbClr val="fcbfda"/>
          </a:solidFill>
          <a:ln w="57240">
            <a:solidFill>
              <a:srgbClr val="f40c74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40c74"/>
                </a:solidFill>
                <a:latin typeface="Brad"/>
              </a:rPr>
              <a:t>MY BUDDHIST TEMPLE</a:t>
            </a:r>
            <a:endParaRPr b="0" lang="en-US" sz="48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solidFill>
            <a:srgbClr val="fcbfda"/>
          </a:solidFill>
          <a:ln cap="rnd" w="38160">
            <a:solidFill>
              <a:srgbClr val="f40c74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0c74"/>
                </a:solidFill>
                <a:latin typeface="Brad"/>
              </a:rPr>
              <a:t>BY AMELIA </a:t>
            </a:r>
            <a:r>
              <a:rPr b="1" lang="en-US" sz="1800" spc="-1" strike="noStrike">
                <a:solidFill>
                  <a:srgbClr val="f40c74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38160">
            <a:solidFill>
              <a:srgbClr val="f957a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dc3dd"/>
                </a:solidFill>
                <a:latin typeface="Century Schoolbook"/>
              </a:rPr>
              <a:t>MY FIRST STEP WAS TO DRAW THE BUILDING ON PAPER.</a:t>
            </a: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0040" y="16426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73f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b5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ceb500"/>
                </a:solidFill>
                <a:latin typeface="Century Schoolbook"/>
              </a:rPr>
              <a:t>Here is my building at stage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73f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IMG000051.jpg"/>
          <p:cNvPicPr/>
          <p:nvPr/>
        </p:nvPicPr>
        <p:blipFill>
          <a:blip r:embed="rId1"/>
          <a:stretch/>
        </p:blipFill>
        <p:spPr>
          <a:xfrm>
            <a:off x="2143080" y="2500200"/>
            <a:ext cx="45244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dc3dd"/>
                </a:solidFill>
                <a:latin typeface="Century Schoolbook"/>
              </a:rPr>
              <a:t>MY SECOND STEP WAS TO DRAW THE BUILDING ON SKETCHUP.</a:t>
            </a: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0" y="164304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73f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is my building at stage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8" descr=""/>
          <p:cNvPicPr/>
          <p:nvPr/>
        </p:nvPicPr>
        <p:blipFill>
          <a:blip r:embed="rId1"/>
          <a:srcRect l="46119" t="11967" r="2781" b="16242"/>
          <a:stretch/>
        </p:blipFill>
        <p:spPr>
          <a:xfrm rot="120000">
            <a:off x="258480" y="3050640"/>
            <a:ext cx="2928960" cy="2571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59" name="Picture 2" descr=""/>
          <p:cNvPicPr/>
          <p:nvPr/>
        </p:nvPicPr>
        <p:blipFill>
          <a:blip r:embed="rId2"/>
          <a:srcRect l="3204" t="15789" r="2244" b="7894"/>
          <a:stretch/>
        </p:blipFill>
        <p:spPr>
          <a:xfrm rot="20880000">
            <a:off x="3429000" y="2143080"/>
            <a:ext cx="4214880" cy="2071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60" name="Picture 3" descr=""/>
          <p:cNvPicPr/>
          <p:nvPr/>
        </p:nvPicPr>
        <p:blipFill>
          <a:blip r:embed="rId3"/>
          <a:srcRect l="10665" t="12803" r="14669" b="8268"/>
          <a:stretch/>
        </p:blipFill>
        <p:spPr>
          <a:xfrm rot="900000">
            <a:off x="3008160" y="4332240"/>
            <a:ext cx="3243240" cy="214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dc3dd"/>
                </a:solidFill>
                <a:latin typeface="Century Schoolbook"/>
              </a:rPr>
              <a:t>NEXT I HAD TO ADD MY TEXTURES</a:t>
            </a: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73f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is my building at stage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rcRect l="9002" t="11995" r="13005" b="8798"/>
          <a:stretch/>
        </p:blipFill>
        <p:spPr>
          <a:xfrm rot="21060000">
            <a:off x="357120" y="2387160"/>
            <a:ext cx="3289320" cy="2087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64" name="Picture 5" descr=""/>
          <p:cNvPicPr/>
          <p:nvPr/>
        </p:nvPicPr>
        <p:blipFill>
          <a:blip r:embed="rId2"/>
          <a:srcRect l="3715" t="8915" r="3404" b="13809"/>
          <a:stretch/>
        </p:blipFill>
        <p:spPr>
          <a:xfrm rot="480000">
            <a:off x="3932280" y="2241360"/>
            <a:ext cx="4670280" cy="2428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65" name="Picture 6" descr=""/>
          <p:cNvPicPr/>
          <p:nvPr/>
        </p:nvPicPr>
        <p:blipFill>
          <a:blip r:embed="rId3"/>
          <a:srcRect l="0" t="11578" r="0" b="13153"/>
          <a:stretch/>
        </p:blipFill>
        <p:spPr>
          <a:xfrm>
            <a:off x="1928880" y="4643280"/>
            <a:ext cx="3948120" cy="1857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dc3dd"/>
                </a:solidFill>
                <a:latin typeface="Century Schoolbook"/>
              </a:rPr>
              <a:t>NEXT I ADD SOME FINISHING TOUCHES</a:t>
            </a: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rcRect l="0" t="8340" r="0" b="11111"/>
          <a:stretch/>
        </p:blipFill>
        <p:spPr>
          <a:xfrm>
            <a:off x="214200" y="4357800"/>
            <a:ext cx="4114800" cy="2071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68" name="Picture 3" descr=""/>
          <p:cNvPicPr/>
          <p:nvPr/>
        </p:nvPicPr>
        <p:blipFill>
          <a:blip r:embed="rId2"/>
          <a:srcRect l="0" t="11562" r="0" b="10367"/>
          <a:stretch/>
        </p:blipFill>
        <p:spPr>
          <a:xfrm>
            <a:off x="4572000" y="1571760"/>
            <a:ext cx="4098960" cy="214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69" name="Picture 4" descr=""/>
          <p:cNvPicPr/>
          <p:nvPr/>
        </p:nvPicPr>
        <p:blipFill>
          <a:blip r:embed="rId3"/>
          <a:srcRect l="0" t="10376" r="4323" b="11789"/>
          <a:stretch/>
        </p:blipFill>
        <p:spPr>
          <a:xfrm>
            <a:off x="214200" y="1571760"/>
            <a:ext cx="4214880" cy="214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70" name="Picture 5" descr=""/>
          <p:cNvPicPr/>
          <p:nvPr/>
        </p:nvPicPr>
        <p:blipFill>
          <a:blip r:embed="rId4"/>
          <a:srcRect l="7019" t="11230" r="9759" b="13370"/>
          <a:stretch/>
        </p:blipFill>
        <p:spPr>
          <a:xfrm>
            <a:off x="4500720" y="4214880"/>
            <a:ext cx="4214520" cy="2386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82964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dc3dd"/>
                </a:solidFill>
                <a:latin typeface="Century Schoolbook"/>
              </a:rPr>
              <a:t>THEN YOU ARE DONE!!!!!!!!!!!!!!!!!!!!!!!</a:t>
            </a:r>
            <a:endParaRPr b="0" lang="en-US" sz="8000" spc="-1" strike="noStrike">
              <a:solidFill>
                <a:srgbClr val="fdc3d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30:49Z</dcterms:created>
  <dc:creator>Diocesan School for Girls</dc:creator>
  <dc:description/>
  <dc:language>en-US</dc:language>
  <cp:lastModifiedBy>Diocesan School for Girls</cp:lastModifiedBy>
  <dcterms:modified xsi:type="dcterms:W3CDTF">2009-09-03T23:51:31Z</dcterms:modified>
  <cp:revision>157</cp:revision>
  <dc:subject/>
  <dc:title>My Steps</dc:title>
</cp:coreProperties>
</file>